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3591-4670-4C20-B60F-BE439E60F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4D12-B742-4820-BA81-093F2F784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C88-1E20-4627-BCF9-A9DD79E8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2851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74F-7645-488F-98F2-DDFD556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9E3-F6B0-40EB-82DA-7682CF3C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C4F-56D3-405D-A5CC-D6619AE6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B19-B98C-4E41-8EB0-A14159E7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A32-165E-4233-AF74-F756803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D1C-AE0A-439F-98DA-B1DD42C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490-D709-40BD-9BE7-873F91D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6648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4AD-7417-4650-9CAF-FBA72E8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FCA-85E6-423E-8B23-E2A8BE7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2FB-6BB2-4C4E-A736-138AB33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911-8104-40F7-8BE3-1FEC386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475480"/>
            <a:ext cx="2133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8475480"/>
            <a:ext cx="2895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8475480"/>
            <a:ext cx="2133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B65-9040-4934-8FAB-117EA05E3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809880" y="60948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400800" y="190512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562720" y="495288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286000" y="525780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295280" y="190512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1"/>
          <p:cNvCxnSpPr/>
          <p:nvPr/>
        </p:nvCxnSpPr>
        <p:spPr>
          <a:xfrm>
            <a:off x="5334120" y="1066320"/>
            <a:ext cx="12196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 flipH="1">
            <a:off x="6400080" y="3733560"/>
            <a:ext cx="68652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6"/>
          <p:cNvCxnSpPr/>
          <p:nvPr/>
        </p:nvCxnSpPr>
        <p:spPr>
          <a:xfrm flipH="1">
            <a:off x="3733560" y="5562720"/>
            <a:ext cx="16768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 flipV="1">
            <a:off x="1980360" y="3809160"/>
            <a:ext cx="686520" cy="129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7"/>
          <p:cNvCxnSpPr/>
          <p:nvPr/>
        </p:nvCxnSpPr>
        <p:spPr>
          <a:xfrm flipV="1">
            <a:off x="2209680" y="990360"/>
            <a:ext cx="15249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41360" y="7848720"/>
            <a:ext cx="1235160" cy="9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28353" t="21449" r="6189" b="20402"/>
          <a:stretch/>
        </p:blipFill>
        <p:spPr>
          <a:xfrm>
            <a:off x="2422440" y="7848720"/>
            <a:ext cx="1235160" cy="93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4403880" y="7924680"/>
            <a:ext cx="1234800" cy="9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6080040" y="8001000"/>
            <a:ext cx="123516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7696080" y="7924680"/>
            <a:ext cx="1235160" cy="925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8"/>
          <p:cNvSpPr/>
          <p:nvPr/>
        </p:nvSpPr>
        <p:spPr>
          <a:xfrm>
            <a:off x="3809880" y="198108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9"/>
          <p:cNvSpPr/>
          <p:nvPr/>
        </p:nvSpPr>
        <p:spPr>
          <a:xfrm>
            <a:off x="6400800" y="3276720"/>
            <a:ext cx="13716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Spr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5562720" y="632448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1"/>
          <p:cNvSpPr/>
          <p:nvPr/>
        </p:nvSpPr>
        <p:spPr>
          <a:xfrm>
            <a:off x="2286000" y="662940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1295280" y="327672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4"/>
          <p:cNvSpPr/>
          <p:nvPr/>
        </p:nvSpPr>
        <p:spPr>
          <a:xfrm>
            <a:off x="3352680" y="2862360"/>
            <a:ext cx="221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fe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mp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5"/>
          <p:cNvSpPr/>
          <p:nvPr/>
        </p:nvSpPr>
        <p:spPr>
          <a:xfrm>
            <a:off x="6553080" y="228600"/>
            <a:ext cx="24386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7:58:52Z</dcterms:created>
  <dc:creator>Vicky Sedgwick</dc:creator>
  <dc:description>Adapted from a  lesson plan by Heidi Pence
http://www.waupaca.k12.wi.us/faculty/hpence/</dc:description>
  <dc:language>en-US</dc:language>
  <cp:lastModifiedBy>Sedgwick</cp:lastModifiedBy>
  <dcterms:modified xsi:type="dcterms:W3CDTF">2010-10-21T16:20:58Z</dcterms:modified>
  <cp:revision>11</cp:revision>
  <dc:subject>Science</dc:subject>
  <dc:title>Pumpkin Life Cycle - Kindergarten</dc:title>
</cp:coreProperties>
</file>